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1A6-19E3-4DD2-8720-DEF27D4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C62-174E-4531-A9D5-634AA44F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D90-531F-418D-8FB3-18BDE846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E5D-C628-4EC8-82D4-7C2CD87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692F-6938-46BD-8576-201D1287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7B4-26E2-4787-8761-CF0A8EB3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1FA-FD7B-4943-9782-B773FDD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493C-08ED-4EFA-B9EB-915EA1C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1F6-C68D-47B2-BAC2-94E7DC6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5BFC-64FF-4276-8162-6ACA9A26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10D-8923-4809-B107-46B8545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A84-D63D-4C31-8756-3B7F045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9C32-2958-4535-98F7-AE4A397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D03F-A550-42A3-AB08-8547784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B0B3-1B97-49E7-B5B6-CADC039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E4A1-8675-4522-A2D3-EEAB68DB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6DC-8B16-482E-9CF2-B28B0AA8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6C64-E65F-46ED-8B3C-78BAE0B8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D116-10C7-4BCF-A5C7-EB230D2E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D767-1862-4AA3-8EC5-4FEDD40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7D21-3F52-42DD-9626-FE9A526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BEC7-B041-4FC5-A371-E86CB4BE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960-F5B3-454D-A836-EC71910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F6C5-C2D2-4C24-8446-44746B6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B7B7-91F9-4320-AA5B-05EA30D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AB85-BE9C-4E7B-A1E2-7AD2C38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30D0-5E26-47F2-9B4E-E877EA0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53CA-1ED6-4F8D-8753-9994FDB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2263-7D54-4E72-BE59-F913D5D5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50CE-48B4-4680-AF3F-72EF7C2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B6C2-003D-4120-99C6-6DDD862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7165-A098-4161-8597-E722AD4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7D3C-5910-43EA-A6CC-87A1B7ED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393-0AD6-4E3B-8DEA-E1A9761B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C916-D345-4727-9CE4-7FCE85DC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E70A-B47D-4541-A5C4-4774187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728B-4D48-4537-815B-A395414E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9398-A140-43D7-A49D-6B33C6A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1674-9DAA-47CB-BCDB-99D0C30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831AF-62C5-439B-ACFF-E27A442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9DC1-705B-4FB1-90AD-1F353E7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CE37-EEC7-4BDF-B99C-F3744929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5FD5-37F1-409B-A9BC-05113FE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167-2D74-45BD-8DC6-D238463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A3C-A442-47B5-9494-6488EA9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A07-AA6C-47F1-AF4A-F2E6B79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48D-9479-43FF-B52A-F597E5E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323-B558-4955-812F-557D579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7293-50E5-439D-92D3-4136F4D92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6BD-62BE-42C2-8856-E45FC48FA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B83-01BA-43A8-B132-29B5047EA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F0A-4390-4D5E-A098-EC0E9A35A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3300"/>
                </a:solidFill>
                <a:latin typeface="Chalkboard"/>
              </a:rPr>
              <a:t>Mesopotamia </a:t>
            </a:r>
            <a:br>
              <a:rPr sz="5100"/>
            </a:br>
            <a:br>
              <a:rPr sz="5100"/>
            </a:br>
            <a:r>
              <a:rPr b="0" lang="en-US" sz="5100" spc="-1" strike="noStrike">
                <a:solidFill>
                  <a:srgbClr val="003300"/>
                </a:solidFill>
                <a:latin typeface="Chalkboard"/>
              </a:rPr>
              <a:t>The development of citie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752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ading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read a little bit about this fascinating FIRST ci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open your Human Heritage books to page 55.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dependently, please read pages 55 - 59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 the ORGANIZER to help you find details about the BIG IDEA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second city during Mesopotamian times was actually an EMPIR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es anyone know what the difference i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n empire is a MUCH LARGER area of land ruled by only ONE person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kkad/Assyria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rgon the First conquered the city states located around Sumer one by on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s Sargon and his army took over these city states they used the Sumerian gods and Sumerian forms of writi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rgon the First was the ruler of this LARGE empire, and became one of the MOST POWERFUL people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abylo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third city is known as Babyl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parate city - states again gained control of powe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mmurabi was the leader of all of these separate city states, and he created a new code of law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talk A LOT about Hammurabis laws, a little later 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ading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do another readi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open your red text books to page 61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lease read pages 61 - 63.  Stop when you see Section Two Assessmen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 are going to complete the section two assessment in partner pair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NEED TO DO QUESTIONS 1, 2, and 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N YOUR OWN PAPER!!!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ntribution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w that you know a little bit about the area of Mesopotamia and the major city-states that existed here, we are going to talk a bit about what they left behind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ivilizatio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umerians developed the earliest known civilizatio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umerians have been called the “Cradle of Civilization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y do you think this area is known as the “Cradle of Civilization”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ntion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merians invented MANY thing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Wheel -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lpe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3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Plow - Which made it possible for farmers to grow more foo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886200" cy="2908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3090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The Sailboat - Which replaced muscle power with WIND power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61792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865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evelopment of cit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fore 3,500 bc most people were traveling nomad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nomad is a person who doesn’t have a permanent home, and who travels from place to plac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ho wants to take a guess as to why these people were always traveling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e Calendar - The first 12 Month calendar was developed based on the cycles of the moon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892680" cy="448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1650960" cy="1244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209680" y="3048120"/>
            <a:ext cx="18795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esopotamia and MATH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ople during this time developed a number system based on 60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rom this came th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60 - minute Hou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60 - second minu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360 degree circ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intosh HD:Users:rjadick:Desktop:The_Impact_of_the_Babylonians.mov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9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TLA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e are going to complete an atlas activity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lease get into RESPONSIBLE partners!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r, you may work alone :)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REATE A CITY - STAT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are now going to be responsible for creating your OWN city - states since we have spent so much time talking about them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219320" y="0"/>
          <a:ext cx="684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4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Levees? What’s the big deal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Levees were created which helped provide rich soil which helped to grow food, people were on their way to having permanent homes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Because growing food is important for civilization (REMEMBER IT IS ONE OF THE EIGHT SIGNS), communities began to develop around the levees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</a:rPr>
              <a:t>Does anyone want to take a guess as to why communities began to develop around these levees?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ity - Stat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ese levees created areas where people gathered and lived permanently, and they led to the worlds first city - state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ach city - state was an organized civilization, which was protected against attacks from other by HUGE WALL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side each city - states walls there were temples.  The temples were the center of the city - states. The temples were viewed as the MOST IMPORATN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emples RULE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ancient times, temples did rul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ach city - state was though to belong to a different go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mples were built to pray to the god that was in charge of the city - stat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esopotamian Cit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e completed a map yesterday that showed us where Mesopotamia was.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re were THREE very important cities that developed in this are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.  SUM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2.  ASSYRIA (Akkad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3.  BABYL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71160" cy="63374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572000" y="2590920"/>
            <a:ext cx="7621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962520"/>
            <a:ext cx="7617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4343400"/>
            <a:ext cx="7617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2362320"/>
            <a:ext cx="30492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038480"/>
            <a:ext cx="30456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3657600"/>
            <a:ext cx="304920" cy="2286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mer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first city was SUMER, in 3,500 B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mer is the earliest known civilization on EARTH!!!!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Sumer they used mud to build the first houses and the people here were known as the FIRST city builder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eople in Sumer created CUNEIFORM writing (which you all saw yesterday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acintosh HD:Users:robinbelardo:Documents:2004 - 2005 EMS:6th Grade NEW curriclum:Rise of Civilization:Mesopotamia__From_Nomads_to_Farmers.mov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3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49:43Z</dcterms:created>
  <dc:creator>Cecil County</dc:creator>
  <dc:description/>
  <dc:language>en-US</dc:language>
  <cp:lastModifiedBy>CCPS</cp:lastModifiedBy>
  <dcterms:modified xsi:type="dcterms:W3CDTF">2009-09-29T12:06:36Z</dcterms:modified>
  <cp:revision>11</cp:revision>
  <dc:subject/>
  <dc:title>Mesopotamia   The development of cities </dc:title>
</cp:coreProperties>
</file>